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2E1-F453-4838-8879-8A0BCED4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1B3-BC1A-4655-A8E3-AFC83201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A53-BFB0-427B-8071-3B976A71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ADA-5887-4EB3-AFD5-27071BDB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A4AA-072A-4A72-9BAD-7119AE42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2C2A-4317-4A17-BF56-408E5C2E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40B-F63A-4E93-B615-C6234528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968-AE16-48D0-8153-C4FC5040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646-C521-403C-8CEA-736030F5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D9A0-CA18-4D42-BDBA-77922EE44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777D-14E1-4B4C-9707-E7BA2DCA1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3848-72BC-4577-9641-B87A549A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74A4-2BEC-422C-8B0A-5EAFA2DCC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D9FC-9454-4779-910C-EF20F5C38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3E42-0CA4-435A-B9E9-3DEB16CAF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2D56-2339-40CC-AF4E-3B86029BF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4FCD-62B7-420F-94BE-50F0F58D7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33D4-865F-4CF8-862C-A93465DF4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6C2-44EE-431C-8707-16AE7C15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8570-B9D2-41D6-85C0-B234E6CA9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9B1D-285E-4BFD-8877-4F1797F7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7A8E87CF-9371-420A-88F7-0DCD837A7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7DD9F73-3D87-4F34-8517-CBAEF446D1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çon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learned four ways to formulate yes or    no questions in French. However, many questions seek information that can’t be provided by a simple yes or      no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327E0C25-12EC-451A-8CFB-6195DA6D40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se words with </a:t>
            </a:r>
            <a:r>
              <a:rPr b="1" lang="en-US" sz="2100" spc="-1" strike="noStrike">
                <a:solidFill>
                  <a:srgbClr val="2483c8"/>
                </a:solidFill>
                <a:latin typeface="Arial"/>
              </a:rPr>
              <a:t>est-ce q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invers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7_02_p120a"/>
          <p:cNvPicPr/>
          <p:nvPr/>
        </p:nvPicPr>
        <p:blipFill>
          <a:blip r:embed="rId1"/>
          <a:stretch/>
        </p:blipFill>
        <p:spPr>
          <a:xfrm>
            <a:off x="1447920" y="2131920"/>
            <a:ext cx="624816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7_02_p120b"/>
          <p:cNvPicPr/>
          <p:nvPr/>
        </p:nvPicPr>
        <p:blipFill>
          <a:blip r:embed="rId2"/>
          <a:stretch/>
        </p:blipFill>
        <p:spPr>
          <a:xfrm>
            <a:off x="1736640" y="4627440"/>
            <a:ext cx="5426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3E36049C-D1C8-4E7F-B035-0C60D6F013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an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elle heur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anslat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glish, they are not interchangeable.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alk about a day or date,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elle he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alk about a particular time of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7_02_p120c"/>
          <p:cNvPicPr/>
          <p:nvPr/>
        </p:nvPicPr>
        <p:blipFill>
          <a:blip r:embed="rId1"/>
          <a:stretch/>
        </p:blipFill>
        <p:spPr>
          <a:xfrm>
            <a:off x="1371600" y="3429000"/>
            <a:ext cx="62085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899D95DA-39F4-45C7-8136-29A7C6097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way to formulate questions with most interrogative words is by placing them after a verb. This kind of formulation is very informal but very comm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ust immediately follow a preposition in order to be used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est-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nversion. If no preposition is necessary, plac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7_02_p120e"/>
          <p:cNvPicPr/>
          <p:nvPr/>
        </p:nvPicPr>
        <p:blipFill>
          <a:blip r:embed="rId1"/>
          <a:stretch/>
        </p:blipFill>
        <p:spPr>
          <a:xfrm>
            <a:off x="1676520" y="4800600"/>
            <a:ext cx="6172200" cy="153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7_02_p120d"/>
          <p:cNvPicPr/>
          <p:nvPr/>
        </p:nvPicPr>
        <p:blipFill>
          <a:blip r:embed="rId2"/>
          <a:stretch/>
        </p:blipFill>
        <p:spPr>
          <a:xfrm>
            <a:off x="1523880" y="2806560"/>
            <a:ext cx="58946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5C88AD90-0B9E-48D9-8EE7-5488238E62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a question formulated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ourquo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       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ce que/qu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lite to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dicate that you don’t understand what’s being said.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mmen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d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07_02_p121a"/>
          <p:cNvPicPr/>
          <p:nvPr/>
        </p:nvPicPr>
        <p:blipFill>
          <a:blip r:embed="rId1"/>
          <a:stretch/>
        </p:blipFill>
        <p:spPr>
          <a:xfrm>
            <a:off x="1523880" y="2590920"/>
            <a:ext cx="5951520" cy="88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07_02_p121b"/>
          <p:cNvPicPr/>
          <p:nvPr/>
        </p:nvPicPr>
        <p:blipFill>
          <a:blip r:embed="rId2"/>
          <a:stretch/>
        </p:blipFill>
        <p:spPr>
          <a:xfrm>
            <a:off x="1600200" y="5105520"/>
            <a:ext cx="49528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57173EF-9A73-4C24-A2B6-DEEA51C42F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7_02_p121d"/>
          <p:cNvPicPr/>
          <p:nvPr/>
        </p:nvPicPr>
        <p:blipFill>
          <a:blip r:embed="rId1"/>
          <a:stretch/>
        </p:blipFill>
        <p:spPr>
          <a:xfrm>
            <a:off x="1143000" y="4038480"/>
            <a:ext cx="6918480" cy="245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wh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as a subject, the verb that follows is always sin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el(le)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rees in gender and number with the noun   it modif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7_02_p121c"/>
          <p:cNvPicPr/>
          <p:nvPr/>
        </p:nvPicPr>
        <p:blipFill>
          <a:blip r:embed="rId2"/>
          <a:stretch/>
        </p:blipFill>
        <p:spPr>
          <a:xfrm>
            <a:off x="1143000" y="2438280"/>
            <a:ext cx="6618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8770C3FE-B017-4070-9F61-B7264BC153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el(le)(s)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placed before a form of the verb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7_02_p121e"/>
          <p:cNvPicPr/>
          <p:nvPr/>
        </p:nvPicPr>
        <p:blipFill>
          <a:blip r:embed="rId1"/>
          <a:stretch/>
        </p:blipFill>
        <p:spPr>
          <a:xfrm>
            <a:off x="1676520" y="2362320"/>
            <a:ext cx="5554440" cy="66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07_02_p121f"/>
          <p:cNvPicPr/>
          <p:nvPr/>
        </p:nvPicPr>
        <p:blipFill>
          <a:blip r:embed="rId2"/>
          <a:stretch/>
        </p:blipFill>
        <p:spPr>
          <a:xfrm>
            <a:off x="1066680" y="3124080"/>
            <a:ext cx="68709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C5087B0A-9C62-401F-AE6C-7D3113615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essayez"/>
          <p:cNvPicPr/>
          <p:nvPr/>
        </p:nvPicPr>
        <p:blipFill>
          <a:blip r:embed="rId1"/>
          <a:stretch/>
        </p:blipFill>
        <p:spPr>
          <a:xfrm>
            <a:off x="547560" y="1523880"/>
            <a:ext cx="804888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762120" y="2362320"/>
          <a:ext cx="7619760" cy="35971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6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allez-vou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est-ce que vous allez fair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près le cour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cours de français commence à ___________ heur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est-ce que tu ne travailles pa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___________ est-ce qu’on va au cinéma ce soir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d’étudiants y a-t-il dans la salle de class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44"/>
          <p:cNvSpPr/>
          <p:nvPr/>
        </p:nvSpPr>
        <p:spPr>
          <a:xfrm>
            <a:off x="893880" y="167652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nez les mots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interrogatif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2"/>
          <p:cNvSpPr/>
          <p:nvPr/>
        </p:nvSpPr>
        <p:spPr>
          <a:xfrm>
            <a:off x="1366920" y="24796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Com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06T23:38:42Z</dcterms:modified>
  <cp:revision>36</cp:revision>
  <dc:subject>Structures 7.2</dc:subject>
  <dc:title>PROMENADES</dc:title>
</cp:coreProperties>
</file>